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F7D-3759-4FF0-9CE6-36C74EF9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1F0-F6B4-4685-B8C0-6CD9CE7A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127-D7F2-4CA4-A937-E261BF4E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99FF-F615-4088-AE34-F1FCDFA8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150-D260-4519-859E-8B30ED3F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294-9393-473D-9539-6CACD394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9A1D-2F13-4B37-A588-FE529680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70A-2A6F-46A7-9DA5-242268FD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724B-0D59-4E08-A9F0-145C7D6E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99F-7CF4-472C-97E4-079C2486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15A-3AD2-4251-AFA3-4D3B816C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0CB-D749-4D26-87ED-E43484BA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F09B-9C76-482C-BE44-F9F744AB784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YNEK PRACY SZANSĄ DLA PEDAGOG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nna Tuczyń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MK Toruń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annatuczynska@op.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YNEK PRACY SZANSĄ DLA PEDAGO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Rynek pracy w Pols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Zawody przeszłości i przyszł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 Absolwent pedagogiki - dzisiaj i w przyszł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) Pedagog na rynku pracy - szanse i możliw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ECHY NIEZBĘDNE PRZY ZATRUDNIENIU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jomość języków obc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iejętność wykorzystania komputera w codziennej p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iejętności interpersonal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ybkie uczenie si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wartość na zmi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iejętność docierania do odpowiednich inform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AWODY XXI WIEKU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Y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ŻYN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STY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EDAW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JALISTA OD MARKETING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JALISTA OD ZARZĄDZANIA ZASOBAMI LUDZKI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DAGOG NA RYNKU PR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3810240" cy="2935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dagog z elektrod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dagog - zawód przeszłości czy przyszłośc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lna praca - marzenia czy rzeczywistość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ziękuję za uwag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nna Tuczyńsk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MK Toruń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nnatuczynska@op.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08:04:20Z</dcterms:created>
  <dc:creator>Anna</dc:creator>
  <dc:description/>
  <dc:language>en-US</dc:language>
  <cp:lastModifiedBy>arek</cp:lastModifiedBy>
  <dcterms:modified xsi:type="dcterms:W3CDTF">2007-07-07T17:38:54Z</dcterms:modified>
  <cp:revision>6</cp:revision>
  <dc:subject/>
  <dc:title>       RYNEK PRACY SZANSĄ DLA PEDAGOGA</dc:title>
</cp:coreProperties>
</file>