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6DF-1BB1-4995-81C3-B482051C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E5F-AF7A-4FA6-B167-2A25914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D67-7AE5-42E4-BB0C-FAEBB3D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CE8-3B02-4877-BC04-1CA1B323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ED9-89B2-43FD-9EB1-110C33D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886-92CC-409E-92DE-8CE3EBB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A44-FACD-44F5-AAE6-9ADFA36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3DA-12C2-452D-8B03-B0B95B3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EFD-FEAC-4F2A-8A90-9734967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DA9-533E-4CDF-B124-0C58470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174-E2F7-4672-AE43-2E7C08D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CA8-927F-4947-A24B-158EF72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BC6-A44E-4BCE-995A-1612706B607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kademiaparp.gov.pl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uw.pl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bportal.p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lag.org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kn.edu.pl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innowacja.pl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04640"/>
            <a:ext cx="896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Droga poprzez kurs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i szkolenia do pokonania nawet onlin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328464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rol Klimcz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K Toruń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43280" y="5445000"/>
            <a:ext cx="37447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Formy przeprowadzania szkoleń  e-learningow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rwisy newsletter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ony intern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ty, fora, grupy dyskus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y pobierane z Intern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Kursy online powinny dawać możliwoś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y poziomu wiedzy uczestnika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rzenia i edycji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ycznej rejestracji uczestników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rzenia i przeprowadzania testów weryfikujących poziom wied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dawania świadectw ukończenia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u przebiegu szkolenia i postępów, jakie poczynił uczest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rzenia i analizy rapor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rządzania bazą danych uczestników oraz szkole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akterystyczne cechy dobrego szkolenia internetow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tęp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indywidualnego toku na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ójność przek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ycz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wyznaczania różnych potrzeb szkolen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ograniczoność zasię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szybkiego przekazu treści dydakty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óżnorodność zawart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stosowania różnych trybów nau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ademia PARP                             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ski Uniwersytet Wirtualny                   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tal Edukacji Ekonomicznej                  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ędzynarodowe kursy języków obcych 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stytut Kształcenia Nauczycieli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du-Innowacja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7628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owe oferty edukacyj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kademia PA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120" y="1844640"/>
            <a:ext cx="831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y systemem szkoleń internetowych z zakresu zarząd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 wsparcia z infolinią opiekunów i ekspertów merytorycznych, system lojalnośc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płatne szkolenia internetowe oraz wszystkie usługi port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wygenerowania i wydrukowania potwierdzenia udziału w szkol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39440" y="9079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kademiaparp.gov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ski Uniwersytet Wirtual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ięwzięcie Wyższej Szkoły Humanistyczno-Ekonomicznej w Łodzi i Uniwersytetu Marii Curie-Skłodowskiej w Lubli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y studyjne - opcja „spróbuj”, płatne ok. 400 z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y otwarte – kursy komunikacji i NLP, płatne ok. 100 z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y uruchamiane po zgłoszeniu 15 chęt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uzyskania certyfik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4400" y="9079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uw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rtal Edukacji Ekonomicz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91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ad 200 bezpłatnych godzin kursów multimedial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ć uzyskania certyfik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serwis oferuje 8 kursó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a wokół 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 coraz bliż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finansowa fir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dyty i 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monetarna Pol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owoś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z do grosza, czyli jak inwestow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stawy przedsiębiorcz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60800" y="9810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bportal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ędzynarodowe kursy języków obc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teraktywny sposób nauki języka obc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ępne kursy online, słowniki, opowiadania, wyjaśnienia gramatyczne, zasady wym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a dyskusyjne, czyli Wirtualne Szkoły Języka Obcego prowadzone przez opiekuna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ative speake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, który w trakcie dyskusji poprawia wypowiedzi uczestników, zadaje ćwi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12880" y="148428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ilag.o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ytut Kształcenia Nauczycie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2538000"/>
            <a:ext cx="8480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enia stacjonarne oraz e-learning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łówne zagadnienia: proces nauczania i wychowania, kompetencje psychologiczne nauczyciela, metody diagnozy pedagogicznej i psychologicznej, kompetencje terapeutyczne nauczyciela, prawo w szk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61320" y="12682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kn.edu.p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Edu-Innow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840" y="1988640"/>
            <a:ext cx="8929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oc w osobistym rozwo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kolenia stacjonarne otwarte oraz szkolenia przez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mowy kurs: Nowoczesne sposoby radzenia sobie ze stre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y płatne: Inteligencja emocjonalna, Sposób na trudnych ludzi, Techniki zapamięty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35880" y="10526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duinnowacj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 zmusza ludzi do ustawicznej edukacj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mogi ry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ęp technolog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zny rozwój technik komunika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iany w sferze kul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robata certyfikat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492280"/>
            <a:ext cx="822960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niej opinia o nieadekwatności zaświadczeń ukończenia szkolenia internetowego w porównaniu z kursem stacjonar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Cech nabywane przez osoby uczestniczące w kursach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angaż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ększa mobiliz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yw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ycznoś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2492280"/>
            <a:ext cx="649440" cy="2160720"/>
          </a:xfrm>
          <a:custGeom>
            <a:avLst/>
            <a:gdLst>
              <a:gd name="textAreaLeft" fmla="*/ 0 w 649440"/>
              <a:gd name="textAreaRight" fmla="*/ 234360 w 6494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0040" y="321300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chy pożąd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z pracodaw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ta szkoleń dąży do szczelnego wypełnienia zapotrzebowania ry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y spełniają ideę otwartego i ustawicznego 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ział w szkoleniach sprzyja nabywaniu cech pożądanych przez pracodaw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55640" y="2421000"/>
            <a:ext cx="3816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rol Klimcz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K Toru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40000" y="5013360"/>
            <a:ext cx="40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n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pełni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ujący szeroki wachlarz szkoleń i kursów, dotyczących każdej dziedziny wied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ział szkoleń i kurs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łatne – Bezpłat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pośrednie – Pośred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sztaty – Wykł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wodowe –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warte – Zamknię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czne – Asynchroniczne - Miesz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kolenia otwarte i zamknię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kolenia otwar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gólnodostępne, użytkownik decyduje kiedy i czego będzie się uczy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kolenia zamknię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zeprowadzane najczęściej w firmach wśród pracowników. Uczestnicy mają mały wpływ na rodzaj i treść 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kolenia synchroniczne, asynchroniczne i miesz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560" y="1988640"/>
            <a:ext cx="9001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enia synchronicz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jczęściej bezpośrednie, uczestnik w czasie rzeczywistym może komunikować się z prowadzącym i uczestni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enia asynchronicz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uczestnik sam decyduje kiedy i ile czasu poświęci nauce, utrudniony kontakt z prowadzącym i innymi uczestni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enia mieszane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blended learn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wykorzystują niektóre cechy obydwu ww. szkole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nomen pracownika fizyczn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cja z Polski - brakuje wykwalifikowanych pracowników fizy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proporcjonalne zarobki w stosunku do poziomu wy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y z wyższym wykształceniem przekwalifikowują się na pracowników fizy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kłady Doskonalenia Zawodowego - of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kolenia z zakre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óbki 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wnic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nomii i przetwórstwa żyw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y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ety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ploatacji dźwig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ług i rzemios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 a szkolenia zawod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dzo mało ofert dotyczących dokształcania i doskonalenia zawod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ta zorientowana na kursy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22:31:33Z</dcterms:created>
  <dc:creator>KAROL KLIMCZAK</dc:creator>
  <dc:description/>
  <dc:language>en-US</dc:language>
  <cp:lastModifiedBy>arek</cp:lastModifiedBy>
  <dcterms:modified xsi:type="dcterms:W3CDTF">2007-07-07T17:38:46Z</dcterms:modified>
  <cp:revision>16</cp:revision>
  <dc:subject/>
  <dc:title>Slajd 1</dc:title>
</cp:coreProperties>
</file>