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912-4C69-44D5-898E-2E105D75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02F-BB7F-47E5-AA38-E643A63A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319-1CFD-4250-8D46-2E13AAEA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EFA-562F-4451-8BE6-8857C22B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C1A0-EEAB-4950-B7B6-AEA13A10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0789-6032-4169-B7AB-073A6EAF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4F2E-9BA1-4ABE-B3AF-33197F15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8A3B-0DB9-4C31-BE0B-03951D09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BCFE-45B1-47DC-98BE-FE2383B6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E960-9937-4363-9B68-B9DBE191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85F6-8BA2-49E8-87E8-5FFF623B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D30-ACF6-4C16-AC23-25FE0456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A50C-C975-4520-AD8F-1057E76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CBB7-AD3D-4B79-9AB2-64BB759A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9ADF-E4D3-4391-B9CF-F395C3B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0876-C70A-41B4-83E2-D377ED4E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B49C-5041-4320-BE4D-0032B904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FB2-7417-4BA6-89F9-B934ECCA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6CA-973D-4D8F-8AD6-34EA42EE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AC2-AADB-4811-94FB-757C2BA5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345-167B-4DD2-9820-DA02564E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86F-A953-4764-9C68-41B04CC2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5D4-6A7D-4491-AAA9-42FA47DA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A4F-0C07-44A5-8240-3023BEA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13FD-F592-4A2E-9627-F7518F2399AB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330F-097B-4E22-A2A1-DAC9573458A0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130480"/>
            <a:ext cx="770400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000" spc="-1" strike="noStrike">
                <a:solidFill>
                  <a:srgbClr val="666633"/>
                </a:solidFill>
                <a:latin typeface="Arial"/>
              </a:rPr>
              <a:t>„</a:t>
            </a:r>
            <a:r>
              <a:rPr b="1" i="1" lang="pl-PL" sz="5000" spc="-1" strike="noStrike">
                <a:solidFill>
                  <a:srgbClr val="666633"/>
                </a:solidFill>
                <a:latin typeface="Arial"/>
              </a:rPr>
              <a:t>Zagraniczne podboje – </a:t>
            </a:r>
            <a:br>
              <a:rPr sz="5000"/>
            </a:br>
            <a:r>
              <a:rPr b="1" i="1" lang="pl-PL" sz="5000" spc="-1" strike="noStrike">
                <a:solidFill>
                  <a:srgbClr val="666633"/>
                </a:solidFill>
                <a:latin typeface="Arial"/>
              </a:rPr>
              <a:t>czy ja też mogę?”</a:t>
            </a:r>
            <a:endParaRPr b="0" lang="en-US" sz="50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W szczególności promowane są cele szczegółowe takie jak: 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bywanie nowych umiejętnoś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udowanie ściślejszych powiązań pomiędzy instytucjami edukacyjnymi i przedsiębiorstw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walczanie wszelkich form dyskryminacji społeczn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pieranie inwestowania w rozwój zasobów ludzk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powszechnianie dostępności do umiejętności budowanie społeczeństwa informacyjnego i systemu uczenia się przez całe życ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W programie LEONARDO da VINCI są realizowane różnorodne projekty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miany i staż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jekty pilotażowe, w tym tzw. akcje tematycz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jekty językow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iędzynarodowe sieci instytucj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badania i analiz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kcje wspól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W Polsce Narodową Agencją Programu Leonardo da Vinci jest:</a:t>
            </a:r>
            <a:br>
              <a:rPr sz="3400"/>
            </a:b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Biuro Koordynacji Kształcenia Kadr, Fundusz Współprac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l. Górnośląska 4a, 00-444 Warsza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l.: (22) 625 39 37, 622 19 91; faks: 625 28 05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-mail: bkkk@cofund.org.pl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www.bkkk-cofund.org.pl/leonar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1218960"/>
            <a:ext cx="856908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666633"/>
                </a:solidFill>
                <a:latin typeface="Arial"/>
              </a:rPr>
              <a:t>"Uczenie się przez całe życie”</a:t>
            </a:r>
            <a:br>
              <a:rPr sz="4400"/>
            </a:br>
            <a:r>
              <a:rPr b="1" i="1" lang="pl-PL" sz="4000" spc="-1" strike="noStrike">
                <a:solidFill>
                  <a:srgbClr val="666633"/>
                </a:solidFill>
                <a:latin typeface="Arial"/>
              </a:rPr>
              <a:t>(Lifelong Learning Programme)</a:t>
            </a:r>
            <a:endParaRPr b="0" lang="en-US" sz="4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8920" y="3505320"/>
            <a:ext cx="6838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nowy program wspólnot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Lifelong Learning Programme</a:t>
            </a: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 końcem 2006 roku wygasa II edycja programu Socrates, jego kontynuację w latach 2007-2013 będzie stanowił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ifelong Learning Programm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czyli program wspólnotowy "Uczenie się przez całe życie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Przedmiotem działań </a:t>
            </a:r>
            <a:r>
              <a:rPr b="1" i="1" lang="pl-PL" sz="3000" spc="-1" strike="noStrike">
                <a:solidFill>
                  <a:srgbClr val="666633"/>
                </a:solidFill>
                <a:latin typeface="Arial"/>
              </a:rPr>
              <a:t>Lifelong Larning Programme</a:t>
            </a: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 będą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jekty realizowane w zakresie edukacji i doskonalenia zawodoweg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jekty wzmacniające współpracę pomiędzy krajami członkowskimi U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jekty wspierające mobilność uczniów i nauczycieli z krajów członkowski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W skład programu będą wchodziły tzw. </a:t>
            </a:r>
            <a:r>
              <a:rPr b="0" i="1" lang="pl-PL" sz="3400" spc="-1" strike="noStrike">
                <a:solidFill>
                  <a:srgbClr val="666633"/>
                </a:solidFill>
                <a:latin typeface="Arial"/>
              </a:rPr>
              <a:t>komponenty sektorowe</a:t>
            </a: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: 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meniu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edukacja szkolna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rasmu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szkoły wyższ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szkolnictwo i doskonalenie zawodow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rundtvi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edukacja dorosłych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zw.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omponenty horyzontal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Program "Międzysektorowy"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4 rodzaje aktywności –  rozwój polityki oświatowej, kształcenie językowe, rozwój nowoczesnych technologii informacyjnych, rozpowszechnianie przykładów najlepszych praktyk),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Program Jean Monne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3 rodzaje aktywności- akcja Jean Monnet, europejskie instytucje, stowarzyszenia europejski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Cele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skonalenie systemów wstępnego kształcenia i szkolenia zawodow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każdym poziomie, umożliwiające dostosowanie 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kwalifikowan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godnie z wymaganiami rynku prac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prawa jakości i dostępności kształcenia ustawic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umożliwiając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dobywanie umiejętności oraz kwalifikacji przez całe życi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mowanie i poszerzanie zakresu innowacji w procesie kształcenia i 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wój konkurencyjności i kształtowanie przedsiębiorczośc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Jako priorytety na te lata wyznaczono m.in.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prawę jakości i dostępności systemów kształcenia i szkolenia zawodowego oraz doradztwa zawodoweg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mowanie współpracy miedzy instytucjami kształcenia zawodowego a przedsiębiorstwam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pieranie równych szans w dostępie do kształcenia i szkolenia zawodowego osób znajdujących się w niekorzystnym położeniu na rynku prac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prawę przejrzystości kwalifikacji i kompetencji zawodow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Za realizację programu odpowiada: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undacja Rozwoju Systemu Edukacj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l. Mokotowska 43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00-551 Warsza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l. 0-22 622-37-12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aks: 0-22 622-37-10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-mail kontakt@frse.org.pl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ww.frse.org.p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Prezentację przygotowały: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Arial"/>
              </a:rPr>
              <a:t>Milena Neum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Arial"/>
              </a:rPr>
              <a:t>Ewa Węsier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5300640"/>
            <a:ext cx="462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wersytet Mikołaja Kopernika Toru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uń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500" spc="-1" strike="noStrike">
                <a:solidFill>
                  <a:srgbClr val="666633"/>
                </a:solidFill>
                <a:latin typeface="Arial"/>
              </a:rPr>
              <a:t>Socrates</a:t>
            </a:r>
            <a:endParaRPr b="0" lang="en-US" sz="45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908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500" spc="-1" strike="noStrike">
                <a:solidFill>
                  <a:srgbClr val="000000"/>
                </a:solidFill>
                <a:latin typeface="Arial"/>
              </a:rPr>
              <a:t>Erasmu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Historia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gram Erasmus powstał w 1987 roku jako program wymiany studentó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ea: rozwijanie międzynarodowej współpracy między uczelnia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zwa Erasmus nawiązuje do imienia holenderskiego filozofa i teologa, humanisty,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razma z Rotterdam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1466-1536). Był to znawca teologii, edukacji, retoryki i studiów klasycznych, a także błyskotliwy satyryk. Studiował i nauczał we Francji, Anglii, Włoszech, Szwajcarii i na terenach obecnej Belg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Założenie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aje możliwość studiowania na zagranicznej uczelni na takich samych warunkach, jak studenci przyjmującej szkoły wyższej, lecz bez czesne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Kto może wyjechać?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udenci studiów licencjackich (inżynierskich) / magisterskich/ doktoranckich dziennych i zaocz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ywatel państwa uczestniczącego w programie lub osoba posiadająca prawo stałego pobytu lub status uchodźcy na terenie Pol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momencie wyjazdu studenci co najmniej II roku studi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Dodatkowe kryteria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e wyniki w na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jomość języka obcego, w jakim będą prowadzone zajęcia na uczelni zagranicznej (j. angielski w krajach mniejszości językowej lub język obowiązujący w kraju do którego jedziem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Czas wyjazdu?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in 3 miesiące do max 1 roku akademickiego – w zależności od możliwości uczelni przyjmując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Termin składania dokumentów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elekcja odbywa się zazwyczaj wiosną, w pierwszych tygodniach semestru letn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Opłaty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ypendium wyrównuje tylko zwiększone koszty utrzymania za granic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udenci wyjeżdżający na studia zwolnieni są z opłat za naukę w uczelni przyjmującej (np. wpisowe, czesne, opłaty za egzaminy, korzystanie z laboratoriów czy bibliotek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jeżdżający zachowuje prawo do korzystania ze stypendiów krajowych (naukowego, socjalnego), do których nabył prawa przed wyjaz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Język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ęzyk, w którym zamierza się studiować powinno się znać w stopniu gwarantującym aktywny udział w zajęciach i egzamin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na wziąć udział w kursach przygotowawczych przed wyjazdem (np. kursy języka włoskiego) lub już za granicą w uczelni przyjmującej (jeżeli takie kursy są organizowa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aje mniejszości: językowe kursy przygotowawcze (EILC - Erasmus Intensive Language Cours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udenci przyjęci na kursy zagraniczne nie ponoszą opłaty za kurs tylko za zakwaterowanie i wyżywienie w czasie trwania kursu i w czasie wyciecz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Prawa i obowiązki wyjeżdżającego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czelnia macierzysta,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zobowiązuje się do uznania okresu studiów odbytych w uczelni partnerskie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od warunkiem zrealizowania przez studenta uzgodnionego przed wyjazdem programu studiów ("Porozumienie o studiach" - Learning Agre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systemie ECTS pełny rok akademicki odpowiada 60 punktom, semestr - 30 punktom, a trymestr - 20 punk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udent po powrocie rozlicza się z przedmiotów i egzaminów u Koordynatora Wydziałowego i w Dziekana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Spis treści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ifelong Learning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ocrates Era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orkcam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 Młodzie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uropejski Fundusz Społecz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olontariat Studenc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zostałe wybrane inicjatywy/ wolontari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500" spc="-1" strike="noStrike">
                <a:solidFill>
                  <a:srgbClr val="666633"/>
                </a:solidFill>
                <a:latin typeface="Arial"/>
              </a:rPr>
              <a:t>WORKCAMPY</a:t>
            </a:r>
            <a:endParaRPr b="0" lang="en-US" sz="45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Ogólne wiadomości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iędzynarodowa Organizacja IBO poprzez prace budowlane i remontowe, odbywające się podczas międzynarodowych Workcampów wspiera socjalne projekty w Europ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ganizację założył holenderski ksiądz Warenfried van Straaten w 1953 roku. Zmotywował młodzież i studentów, do budowy domów dla uchodźców i wypędzonych po drugiej wojnie światowej do Niemiec. Wówczas było to swego rodzaju budowlane pogotowie ratunkowe stanowiące lekarstwo dla zniszczonego kra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Narodowe Biura IBO znajdują się w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elgii, Holandii, Niemczech, Francji, Szwajcarii, Austrii, Włoszech, Węgrzech, w Kongo oraz Surin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ciśle ze sobą współpracując zajmują się organizacją Worckamp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iura kontaktowe- pośredniczące znajdują się również w Polsce, Portugalii i w Czech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Niemczech  siedziba mieści się w Worms. Organizacja ta planuje wspólnie ze swoimi międzynarodowymi partnerami  rocznie ok. 180 projektów budowlanych w Europ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Komu pomaga  IBO? 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uduje i remontuje Domy Dziecka, Domy Pomocy Społecznej, Centra Młodzieżowe: Domy Spokojnej Starości, Hospicja, Schroniska dla bezdomnych, jak również odbudowuje kościoły i klasztory. Workcampy odbywają się w całej Europie, w Danii, Niemczech, Albanii, Portugalii, Belgii, Francji, Chorwacji, Rumuni, Włoszech, Mołdawii, Gruzji, Węgrzech, Litwie, Armenii, Rosji, jak również w Polsce. Organizacja angażuje się szczególnie w pomoc rodzinom wielodzietnym, znajdującym się w trudnej sytuacji finansowej, przy odbudowie ich dom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Workcamp z IBO oznacza 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łodych ludzi pomagających społecznie zmarginalizowanym grupom z problemami socjalnymi lub\i finansowymi, w pracach budowlanych, bądź remontowych,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wsze dobrowolnie i bez zapłat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ce w międzynarodowych grupach łączą idee ogólnoludzkiej solidarności, bez podziałów na płeć, rasę, czy wyznanie, z pracą na rzecz środowiska lokalnego w imię jednoczącej się Europ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bywanie kompetencji miedzykulturowych, rozwój umiejętności komunikacyjnych i językowych, pobudza kreatywność oraz uczy podejmowania odpowiedzialnoś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zas: od 2 do 6 tygodni, przez 8 godzin pracy każdego dnia na  projektach budowlanych lub remontowy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czestnicy spotkań poznają kraj, ludzi, a ich zaangażowanie stanowi wkład w budowanie porozumienia między narodami. Zawierane są przyjaźnie, odkrywa się nowe tale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Warunki uczestnictwa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kończone 18 l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gotowość do pracy podczas poby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czestnicy opłacają podróż przez Polskę ok. 60 zł w dwie strony, resztę przejmuje organiza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leży wypełnić ankiet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Wybrane workcampy 2007.</a:t>
            </a:r>
            <a:br>
              <a:rPr sz="3400"/>
            </a:br>
            <a:r>
              <a:rPr b="0" lang="pl-PL" sz="2500" spc="-1" strike="noStrike">
                <a:solidFill>
                  <a:srgbClr val="666633"/>
                </a:solidFill>
                <a:latin typeface="Arial"/>
              </a:rPr>
              <a:t>(Na każdym z projektów są 4 miejsca dla uczestników z Polski).</a:t>
            </a:r>
            <a:endParaRPr b="0" lang="en-US" sz="25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ulfshagenerhütten, Schleswig-Hol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.09 – 29.09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pis projektu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„Basisgemeinde - Wulfshagenerhütten” jest  wspólnotą chrześcijańską powstałą z ruchu religijno – socjalnego w latach siedemdziesiątych. Od 1983 roku 60 członków wspólnoty żyje i pracuje razem na obszarze byłego majątku ziemskiego niedaleko Kilu. Dzień powszedni i praca są zorganizowane w taki sposób, że ludzie wszystkich generacji i posiadający różne umiejętności mogą znaleźć dla siebie miejsce i wnieść swój wkład w życie wspól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aca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usuwanie tapet, malowanie, lakierowanie, prace ogrodowo-budowlane, pomoc w warsztacie przy wytwarzaniu zabawek z drew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Inne miejscowości to: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berstädt, Thü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06.05. - 17.05.2007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09.09. - 22.09.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aca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rowanie, tynkowanie, budowanie elementów z płyt kartonowo – gipsowych, demontowanie starych elementów budynku, obróbka elementów drewni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ilmersdorf, Branden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08.07. – 21.07.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aca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budowa ławek kościelnych (skracanie, szlifowanie, malowanie), renowacja okien i drzwi, prace rozbiórkowe, wylewanie fundamentów pod parking samochodow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ckesheim (niedaleko Heidelbergu), Baden-Württem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6.08. - 08.09.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aca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dowanie konstrukcji z płyt kartonowo – gipsowych, obróbka elementów drewnianych, kładzenie kostki brukowej, budowanie dachu, elektryka, prace rozbiórk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uenweg (Baden Württembe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2. - 25.08.2007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1. - 25.11.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raca: 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lowanie, burzenie (podłoga, sufit), kładzenie posadzki, prace ogrodowe, obróbka elementów drewnianych, tworzenie nowego pola campingowego.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500" spc="-1" strike="noStrike">
                <a:solidFill>
                  <a:srgbClr val="666633"/>
                </a:solidFill>
                <a:latin typeface="Arial"/>
              </a:rPr>
              <a:t>Leonardo da Vinci</a:t>
            </a:r>
            <a:endParaRPr b="0" lang="en-US" sz="45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64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500" spc="-1" strike="noStrike">
                <a:solidFill>
                  <a:srgbClr val="666633"/>
                </a:solidFill>
                <a:latin typeface="Arial"/>
              </a:rPr>
              <a:t>PROGRAM</a:t>
            </a:r>
            <a:endParaRPr b="0" lang="en-US" sz="45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500" spc="-1" strike="noStrike">
                <a:solidFill>
                  <a:srgbClr val="000000"/>
                </a:solidFill>
                <a:latin typeface="Arial"/>
              </a:rPr>
              <a:t>MŁODZIEŻ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Akcja 1- </a:t>
            </a: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Młodzież dla Europy</a:t>
            </a: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Akcja 1.1. – Wymiana Młodzież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o wspólne przedsięwzięcie co najmniej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wóch grup młodzieży z krajów europejskich,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które umożliwia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spółpracę w oparciu o zainteresowania uczestnikó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Założenia Akcji 1.1.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la kogo?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Dla młodzieży w wiek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3 – 25 la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Wymianę ta może zorganizować każda instytucja, organizacja i grupa nieformalna, która pracuje z młodzieżą i dla młodzieży, pochodząca z jednego z Krajów Progra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zestnicy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ymiana musi mieć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nimum 16, maksimum 60 uczestnik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Każda grupa powinna mieć przynajmniej jednego opiek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zas trwania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ojekt ten może trwać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5 miesięc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włączając przygotowania, realizację, ewaluację i działanie promujące efekty projektu).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ama wymiana trwa od 6 do 21 dni (w tym podró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ejsc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ażdy Kraj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ematyka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ojekt powinien być zgodny z zainteresowaniami i doświadczeniami uczestników wymiany. Uzgodniony temat musi być przełożony na konkretne działania w projek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matyka może dotyczyć: kultury, sztuki, ekologii, sportu, tańca, muzyki, literatury, historii, filmu-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ym czego dana grupa się interesuje lub czego się chce nauczy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Tematy projektów  muszą w szerokiej perspektywie wiązać się z celami i tematami ogólnymi Programu, czyl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zestnictwem młodzieży w społeczeństwie, przeciwdziałaniem rasizmowi i ksenofobii, promowaniem różnorodności kulturowej i toleran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 u="sng">
                <a:solidFill>
                  <a:srgbClr val="666633"/>
                </a:solidFill>
                <a:uFillTx/>
                <a:latin typeface="Arial"/>
              </a:rPr>
              <a:t>Akcja 1.2. – Inicjatywy Młodzieżowe</a:t>
            </a: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warza możliwość zrealizowania działań służących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łeczności lokalnej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Projekty te w całości są tworzone i realizowane przez młodych ludzi w kraju lub we współpracy z grupą z zagranicy.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 inicjatywach międzynarodowych grup z co najmniej dwóch krajów równocześnie realizują ten sam projekt w swoich społecznościach lokal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Założenia Akcji 1.2.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la kogo?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la młodzieży w wieku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18-30 la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 organizacji non- profit i grup nieformaln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. Możliwe jest również realizowanie działań przez młodzież w wieku 15 - 17 lat (warunkiem jest zaangażowania w projekt pełnoletniego doradcy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zas trwania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 3 do 18 miesięc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włączając przygotowanie, realizację, ewaluację i promocję projekt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iejsce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Inicjatywy krajowe - w Pols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Inicjatywy międzynarodowe - w Polsce i w kraju grupy inicjatywne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rupy partnerskie mogą pochodzić jedynie z Krajów Progra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ematyka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ażne jest, aby wybrana tematyka projektu odnosiła się do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interesowań samej grupy inicjatywne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tyczyła społeczności lokaln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 u="sng">
                <a:solidFill>
                  <a:srgbClr val="666633"/>
                </a:solidFill>
                <a:uFillTx/>
                <a:latin typeface="Arial"/>
              </a:rPr>
              <a:t>Akcja 1.3. – Młodzież w Demokracji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kcja wspiera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nia promujące uczestnictwo młodzieży w życiu demokratycznym na poziomie lokalnym, krajowym lub międzynarodowym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jekty w tej akcji pozwalają na zebranie i podsumowanie pomysłów, doświadczeń, metodologii i działań w celu zwiększenia uczestnictwa młodzieży na poziomie europejsk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kcja pozwala na tworzenie sieci oraz wymianę i rozpowszechnianie praktyk w dziedzinie uczestnictwa młodzież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Założenia Akcji 1.3.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la kogo?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Młodzi ludzie w wieku od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13 do 30 la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wiązani z różnymi organizacjami non- profit z Krajów Programu, władze lokalne/regionalne i krajowe związane z działaniami na rzecz młodzieży oraz grupy nieformalne. Liczba uczestników w projekcie- co najmniej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16 osó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zas trwania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 6 do 18 miesięc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włączając przygotowanie, realizację, ewaluację i promocję projekt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atyk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mat musi być związany z jednym z priorytetów programu Młodzież w Działaniu: aktywnym obywatelstwem, różnorodnością kulturową, obywatelstwem europejskim oraz społecznym włączaniem lub z jednym z następujących tematów: przyszłość Europy i przyszłość/rozwój polityki młodzieżowe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pl-PL" sz="2300" spc="-1" strike="noStrike">
                <a:solidFill>
                  <a:srgbClr val="666633"/>
                </a:solidFill>
                <a:latin typeface="Arial"/>
              </a:rPr>
              <a:t>PROGRAM LEONARDO DA VINCI</a:t>
            </a:r>
            <a:r>
              <a:rPr b="0" lang="pl-PL" sz="2300" spc="-1" strike="noStrike">
                <a:solidFill>
                  <a:srgbClr val="666633"/>
                </a:solidFill>
                <a:latin typeface="Arial"/>
              </a:rPr>
              <a:t>- ogólne wiadomości</a:t>
            </a:r>
            <a:br>
              <a:rPr sz="2300"/>
            </a:br>
            <a:endParaRPr b="0" lang="en-US" sz="23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lska uczestniczy w Programie Leonardo da Vinci od 1998 r. dzięki podpisanemu przez nią w 1991 r. Układzu Europejskieg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zięki uczestnictwu w Programie Polska mogła zrealizować zobowiązania dotyczące edukacji, wynikające z Układu Europejskiego, sprawniej dostosować się do wymogów uczestnictwa w Unii Europejskiej oraz zreformować krajowy system edukacyjn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Akcja 2-</a:t>
            </a:r>
            <a:r>
              <a:rPr b="1" lang="pl-PL" sz="3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666633"/>
                </a:solidFill>
                <a:latin typeface="Arial"/>
              </a:rPr>
              <a:t>Wolontariat Europejski </a:t>
            </a:r>
            <a:br>
              <a:rPr sz="3400"/>
            </a:br>
            <a:r>
              <a:rPr b="1" lang="en-US" sz="3400" spc="-1" strike="noStrike">
                <a:solidFill>
                  <a:srgbClr val="666633"/>
                </a:solidFill>
                <a:latin typeface="Arial"/>
              </a:rPr>
              <a:t>(EVS- European Voluntary Service)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kcja ta umożliwia wolontariuszowi lub grupie wolontariuszy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djęcie pracy społeczne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 Kraju Programu lub Kraju Partnersk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VS powstało po to,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by wolontariusze mogli zdobywać kompetencje i umiejętności wpływające na ich rozwój osobisty i zawodowy przez doświadczenia związane z edukacją pozaformaln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olontariat Indywidualny angażuje jednego wolontariusza, jedną organizację wysyłającą i jedną goszcząc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olontariat Grupowy pozwala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wet 100- osobowej grupie wolontariuszy wyjechać do tej samej organizacji goszczące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lub mniejszym grupom do różnych organizacji goszczących, aby wziąć udział w projektach o podobnej tematy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Założenia EVS’u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la kog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dla młodych ludzi w wieku 18-30 lat (w szczególnych sytuacjach możliwy jest udział młodzieży w w wieku 16-17 lat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dla organizacji typu non-profit wysyłających i goszczących wolontariusz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zas trwa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2-12 miesięcy dla młodzieży w wieku 18-30 l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2 tygodnie- 2 miesiące dla młodzieży z mniejszymi szan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e: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Kraje Programu i Kraje Partnersk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matyka: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kultura i sztuka, informacja młodzieżowa, sport, opieka socjalna, dziedzictwo kulturowe, ekologia etc.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rojekty nie mogą dotyczyć działań o wysokim ryzyku, np.: akcji humanitarnych, ratunkowy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Akcja 3-</a:t>
            </a: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 Młodzież w Świecie</a:t>
            </a: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kcja ta promuje wymianę i współpracę z regionami leżącymi poza UE i krajami nie należącymi do Krajów Progra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 u="sng">
                <a:solidFill>
                  <a:srgbClr val="666633"/>
                </a:solidFill>
                <a:uFillTx/>
                <a:latin typeface="Arial"/>
              </a:rPr>
              <a:t>Akcja 3.1.- Współpraca z Partnerskimi Krajami Sąsiedzkimi UE</a:t>
            </a: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Wymiany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la kogo?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Młodzież w wiek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3- 25 la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działająca w organizacji non- profit, lokalnej lub regionalnej instytucji publicznej albo tworząca grupę nieformal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wymianie musi wziąć udział jedna lub więcej grup z Partnerskich Krajów Sąsiedzkich UE i przynajmniej jedna grupa z Kraju Unii Europej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ejsc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raj Programu lub Partnerski Kraj Sąsiedzki UE;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jątek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ojekty nie mogą odbywać się w jednym z krajów Basenu Morza Śródziem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ematyka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rojekty muszą być związane z codziennym życiem uczestników, interesujących dla nich wszystkich, musi zawierać element edukacji poza formalnej i co bardzo ważne- musi posiadać wymiar europejski. Temat powinien być związany z wzmocnieniem społeczeństwa obywatelskiego, demokracji, walką z rasizmem i ksenofobią, dialogiem, różnorodnością etniczną i religijną, aktywną rolą kobiet w społeczeństwie czy prawami mniejszości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Szkolenia i tworzenie s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la kogo?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szyscy zainteresowani edukacją poza formalną i pracujący z młodzieżą, jak również sama młodzież, która chce nawiązać współpracę międzynarodową. W projekcie musi wziąć udział jedna lub więcej organizacji/grup z Partnerskich Krajów Sąsiedzkich UE i przynajmniej jedna organizacja/grupa z Krajów Unii Europej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ejsc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 Kraj Programu lub Partnerski Kraj Sąsiedzki UE;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jąte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 projekty nie mogą odbywać się w jednym z krajów Basenu Morza Śródziem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ematy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ob shadowing/sta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zyta przygotowawcza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możliwia spotkanie z organizacją, z którą został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wiązany kontakt i z którą organizacja goszcząca chce zrealizować projek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potkanie ewalucyj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ma na celu podsumowanie i ewaluację dotychczasowych spotkań, seminariów, szkoleń i współpracy pomiędzy ni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zyta studyj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potkanie pracowników młodzieżowych, podczas którego formami pracy są dyskusje, warsztaty i wizyty w lokalnych organizacjach i instytucjach pracujących z młodzieżą w obszarze edukacji poza forma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ziałania służące budowaniu partnerst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działanie to pomaga znaleźć partnerów do realizacji projektów w różnych Akcjach Program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eminari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omawianie zagadnień związanych z tematyką młodzieżową w międzynarodowej grup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koleni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organizowane by osoby pracujące z młodzieżą mogły zdobywać wiedzę i doskonalić praktyczne umiejętności w zakresie tej pracy i realizacji projektów w Programie Młodzie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ziałania służące budowaniu siec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celem jest tworzenie nowych sieci partnerskich oraz wzmacnianie i pogłębianie współpracy z dotychczasowymi partnerami. Ułatwiają komunikację między organizacjami i dają możliwość planowania i realizacji wspólnych przedsięwzięć w ramach 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Głównym założeniem Programu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pagowanie działań, które koncentrują się na poprawie jakości systemów kształcenia i szkolenia zawodoweg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stosowanie systemu edukacji do potrzeb rynku pra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udentom Program Leonardo stwarzał możliwość organizowania zagranicznych praktyk zawodowych (do 2007 rok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 u="sng">
                <a:solidFill>
                  <a:srgbClr val="666633"/>
                </a:solidFill>
                <a:uFillTx/>
                <a:latin typeface="Arial"/>
              </a:rPr>
              <a:t>Akcja 3.2.- Współpraca z Innymi Krajami Partnerskimi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kcja ma na celu wspieranie projektów promujących współpracę między Krajami Programu i Innymi Krajami Partnerskimi, nie sąsiadującymi z Unią Europejską, które podpisały porozumienia ze Wspólnotą Europejską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otyczące problematyki młodzieżowe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666633"/>
                </a:solidFill>
                <a:latin typeface="Arial"/>
              </a:rPr>
              <a:t>Pozostałe dwie akcje Programu Młodzież nie dotyczą studentów w sposób bezpośredni:</a:t>
            </a:r>
            <a:endParaRPr b="0" lang="en-US" sz="3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Akcja 4-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Systemy wsparcia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kcja pomaga wszystkim, którzy są zaangażowani w działalność młodzieżową i realizują projekty w ramach Programu Młodzież w Działaniu. Wspiera działania organizacji zaangażowanych w promowanie aktywnego obywatelstwa na poziomie lokalnym, krajowym i międzynarodowym. Oferuje szkolenia, seminaria i staże dla pracowników młodzieżow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  Akcji 4. może uczestniczyć zarówno młodzież jak i osoby pracujące z młodymi ludźmi(bez względu na wiek). Tematyka jak w Akcji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000000"/>
                </a:solidFill>
                <a:uFillTx/>
                <a:latin typeface="Arial"/>
              </a:rPr>
              <a:t>Akcja 5- </a:t>
            </a:r>
            <a:r>
              <a:rPr b="1" lang="pl-PL" sz="2600" spc="-1" strike="noStrike" u="sng">
                <a:solidFill>
                  <a:srgbClr val="000000"/>
                </a:solidFill>
                <a:uFillTx/>
                <a:latin typeface="Arial"/>
              </a:rPr>
              <a:t>Wsparcie europejskiej współpracy w zakresie problematyki i działań młodzieżowy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spiera dialog młodzieży z osobami odpowiedzialnymi za kreowanie polityki młodzieżowej w Europie oraz europejską współpracę w zakresie problematyki i działań młodzieżowych. Ta Akcja m.in tworzy warunki dla dialogu pomiędzy młodzieżą, a osobami tworzącymi politykę młodzieżow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73422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6633"/>
                </a:solidFill>
                <a:latin typeface="Arial"/>
              </a:rPr>
              <a:t>Europejski Fundusz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24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połecz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Europejski Fundusz Społeczny</a:t>
            </a: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st jednym z Funduszy Strukturalnych, który powołany został w celu wspierania wspólnotowej polityki społeczne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inansuje on działania państw członkowskich w zakresie przeciwdziałania bezrobociu i rozwoju zasobów ludzki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e środków funduszu finansowane są głównie szkolenia zawodowe, stypendia, praktyki zawodowe, doradztwo i pośrednictwo zawodowe, analizy i badania dotyczące rynku pracy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666633"/>
                </a:solidFill>
                <a:latin typeface="Arial"/>
              </a:rPr>
              <a:t>Obszary wsparcia</a:t>
            </a: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 Europejskiego Funduszu Społecznego (EFS)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ktywna polityka rynku pra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ciwdziałanie zjawisku wykluczenia społeczne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ształcenie ustawicz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skonalenie kadr gospodarki oraz rozwój  przedsiębiorczośc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ówność szans kobiet i mężczyzn na rynku p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Typy projektów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ozwój i modernizacja instrumentów i instytucji rynku p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erspektywy dla młodzie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zeciwdziałanie i zwalczanie długotrwałego bezrobo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tegracja zawodowa i społeczna osób niepełnospraw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mocja aktywnej polityki społecznej poprzez wsparcie grup szczególnego ryzy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tegracja i reintegracja zawodowa kobi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większanie dostępu do edukacji – promocja kształcenia przez całe ży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niesienie jakości edukacji w odniesieniu do potrzeb rynku p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ozwój kadr nowoczesnej gospodar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ęcej na: www.efs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060280"/>
            <a:ext cx="59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6633"/>
                </a:solidFill>
                <a:latin typeface="Arial"/>
              </a:rPr>
              <a:t>Wolontari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411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tudenc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7432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Wolontariat Studencki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olontariat studencki jest programem Polsko-Amerykańskiej Fundacji Wolności, realizowanym przez Polskie Stowarzyszenie Pedagogów i Animatorów KLANZA w Lubli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łównym elementem Programu są projekty edukacyjne realizowane przez studentów-wolontariuszy na rzecz dzieci i młodzieży ze szkół wiejskich i z małych mi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Celem</a:t>
            </a: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 Programu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oc w wyrównywaniu szans edukacyjnych dzieci i młodzież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śród wolontariuszy-studentów Program ma na celu kształtowanie postaw społecznych, rozwijanie ich pasji i umożliwienie realizacji ich pomysłów. Projekty edukacyjne realizowane w ramach Programu są autorskimi propozycjami wolontariuszy i mogą dotyczyć wybranej kategorii, np. zajęcia artystyczne, humanistyczne, psychologiczne, sportowe, informatyczne, lingwistyczne oraz wiele innych, w których uczestnictwo da młodzieży szansę rozwoju zainteresowań i pas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 jest finansowany przez Komisję Europejską z funduszy państw uczestniczący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 Leonardo da Vinci wspiera projekty zakładające międzynarodową współpracę w dziedzinie kształcenia i szkolenia zawodow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666633"/>
                </a:solidFill>
                <a:latin typeface="Arial"/>
              </a:rPr>
              <a:t>Założenia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dział mogą brać studenci z każdego kierunku studi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iejscowość w której realizowany jest projekt nie może przekraczać 20.000 mieszkańc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ypy projekt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systematyczny (3 spotkania po 2 godziny)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ferie zimow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wakacyj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ięcej na: www.wolontariatstudencki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561168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6633"/>
                </a:solidFill>
                <a:latin typeface="Arial"/>
              </a:rPr>
              <a:t>Pozostałe wybrane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inicjatywy/ wolontari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666633"/>
                </a:solidFill>
                <a:latin typeface="Arial"/>
              </a:rPr>
              <a:t>Wolontariat Socjalny – Budowanie Mostów w Europie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dzie?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Rosji i Niemcz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jęcia/ośrodki?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praca w instytucjach socjalnych i opiekuńczo-wychowawcz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 kim?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dziećmi, młodzieżą, azylantami, osobami niepełnosprawnymi i starszy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 dostajesz?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akwaterowanie, wyżywienie, ubezpieczenie, kieszonkowe i opiekę pedagogi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 co płacisz?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dojaz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mog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18-26 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znajomość języka obc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zaświadczenie lekarskie o stanie zdrow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ięcej informacji: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borussia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666633"/>
                </a:solidFill>
                <a:latin typeface="Arial"/>
              </a:rPr>
              <a:t>Wolontariat Międzynarodowy Stowarzyszenia Wolontariatu VIDES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dzie?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.in. Brazylii, Wenezueli, Ekwadorze, Meksyku, Sudanie gdzie pracują siostry salezjan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jęcia/ośrodki?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Np. praca w „miasteczkach dzieci”, nauka języka angielskiego, prowadzenie warsztatów dla kob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 dostajesz?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akwaterowanie i wyżyw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 co płacisz?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czepienia, ubezpieczenie i podró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mog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18 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potwierdzony udział w obozie formacyj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znajomość języka obc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odpowiednie przygotowanie w zależności od miejsc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olontari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zaangażowanie w wolontariat społeczny we własny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środowi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ięcej informacj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 wisla@cmw.waw.pl, kocwinekh@op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666633"/>
                </a:solidFill>
                <a:latin typeface="Arial"/>
              </a:rPr>
              <a:t>Emmaus International - Workcampy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dzie?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340 ośrodków w 35 krajach na całym świ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jęcia/ośrodki?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walczanie ubóstwa w ośrodkach dla ubog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 dostajesz?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mieszkanie, jedzenie i ubezpiec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 co płacisz?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odró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mogi: skończone 18 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ięcej informacj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www.emmaus-internationa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33"/>
                </a:solidFill>
                <a:latin typeface="Arial"/>
              </a:rPr>
              <a:t>Camphill Communities in Great Britain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dzi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ielka Bryt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jęcia/ośrodki?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ośrodki dla dzieci i młodzieży specjalnej tro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o dostajesz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kwaterowanie, wyżywienie i kieszonk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 co płacisz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jazd i ubezpiecz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mogi: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18 lat i więc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ięcej informacji: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www.camphillschools.org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Agape Centro Ecumenico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Gdzie?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Wło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jęcia/ośrodki?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opieka nad dzieć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o dostajesz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kwaterowanie, wyżywienie, ubezpieczenie w czasie pobytu w ośrod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 co płacisz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ja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mogi: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18 lat i więc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ięcej informacji: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www.agapecentroecumenic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INEX Czechy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Gdzie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ze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jęcia/ośrodki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moc wykluczonym społecz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o dostajesz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kwaterowanie i wyżywi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 co płacisz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jazd i ubezpiecz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mogi: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18 lat, j.angiel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ięcej informacji: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ww.inexsda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Jeunesse et Reconstruction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Gdzie?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Fran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jęcia/ośrodki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socja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o dostajesz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kwaterowanie i wyżywi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 co płacisz?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jazd i ubezpiecz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mogi: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18-35 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ięcej informacji: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www.volontaria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Podsumowanie- plusy wyjazdów zagranicznych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zwój charakter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ultikulturowość: nowe znajomości/ przyjaciele, poznanie nowego państwa, kult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zwijanie swoich zdolności i odkrywanie nowyc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sokonalenie język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różowanie po świec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szerzanie światopoglą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zwijanie tolerancji/ empat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666633"/>
                </a:solidFill>
                <a:latin typeface="Arial"/>
              </a:rPr>
              <a:t>W Programie LEONARDO mogą brać udział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soby prawne (szkoły, uczelnie, stowarzyszenia, samorządy, instytucje pozarządowe, przedsiębiorstwa itd.) z następujących krajó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ństwa Członkowskie Unii Europejskiej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rajeEFTA/EOG: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landia,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chtenstein,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orwegi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raje kandydujące do 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Dziękujemy za uwagę.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6633"/>
                </a:solidFill>
                <a:latin typeface="Arial"/>
              </a:rPr>
              <a:t>Cele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EONARDO DA VINCI jest edukacyjnym programem Unii Europejskiej. Program został utworzony w celu podnoszenia jakości systemów kształcenia, doskonalenia i szkolenia zawodowego w Europ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21:03:47Z</dcterms:created>
  <dc:creator>Marpl</dc:creator>
  <dc:description/>
  <dc:language>en-US</dc:language>
  <cp:lastModifiedBy>arek</cp:lastModifiedBy>
  <dcterms:modified xsi:type="dcterms:W3CDTF">2007-07-07T18:11:37Z</dcterms:modified>
  <cp:revision>38</cp:revision>
  <dc:subject/>
  <dc:title>„Zagraniczne podboje –  czy ja też mogę?”</dc:title>
</cp:coreProperties>
</file>