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DB8-BFB5-4EF3-B797-CEE92E71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E04-5FF4-4ED7-9EA6-D64DB9EC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02A-67B0-4873-AF5C-70FC77FE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A6C-E4FC-48E9-969D-886D82D3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A400-D022-40D8-82A5-636F8052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D30D-AB88-4BB0-8431-E38DF758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D9D0-5572-47A2-B98B-50CF313E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A3A6-69E6-4729-93B0-5738D716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89D3-AC9B-495B-B83C-3E79BB5D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5183-0CAA-4F97-A0A4-76D5F576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2DD9-26E7-4357-BC57-011D51D2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8F1-0E84-4529-B40B-50EB12F4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A7F5-E3F3-4A7C-81A6-9D24513B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2364-C3E4-4D7C-854A-971839D5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17E3-3992-4BD8-9205-1973C77E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D59F-69E7-484B-8794-EB8BC6A6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E8C1-7078-4F33-AAA9-B4D0B6D8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8D8-66E2-4E7A-9F24-8BBAC956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1EA-1BFB-4421-9347-701FCF7A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6A6-E142-4019-8C45-5F22A1E8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4C8-5B7E-46FA-BB62-1FE3280B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496-D17D-4DDC-BD64-BAE7B66F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912-BB5A-4B94-999E-9DFE3F83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62F-D28F-4EC2-942E-5948C5E7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12877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F78E-B9CD-4488-B4A0-C13FDD790AEE}" type="slidenum">
              <a:rPr b="0" lang="pl-P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A347-DAAF-4C9C-AEEE-1B346A40098A}" type="slidenum">
              <a:rPr b="0" lang="pl-P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fotogalerie.pl/galeria/galeria_qwertyjaja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fotogalerie.pl/galeria/galeria_qwertyjaja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edeon.a.waw.pl/skrypt.php?i=15&amp;m=agresj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27432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49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Materiały z warsztató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049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049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Karol Klimcz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049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Konferencja P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049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Stres</a:t>
            </a: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4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SŁODKIE CYTRY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565360"/>
            <a:ext cx="817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Inaczej zwane pozytywnym myśleni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Jest to próba przekonania siebie, że nieprzyjemne sytuacje, w których braliśmy udział, były przyjem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Kwaśne winog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Uznanie wygórowanych celów, których nie jesteśmy w stanie osiągnąć za nieważ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WIZUALIZAC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Symulacja to próba przygotowania się na stresującą sytuację. Dużą rolę ma tutaj wyobraź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METODA PRZYBLIŻE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Polega na łączeniu ze sobą stresora z obiektem, który wpływa na człowieka pozytywn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AGRES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Jest najbardziej pierwotną z metod radzenia sobie ze stresem, jednak pomimo jej skuteczności nie jest aprobowana przez społeczeństw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TECHNIKI RADZENIA SOBIE ZE STRES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Metody środowiskow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Techniki fizjologic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Techniki umysł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METODY ŚRODOWISKO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492280"/>
            <a:ext cx="80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Metoda ta polega na wyeliminowaniu z otoczenia stresorów lub wprowadzeniu do otoczenie tzw. uspokajacz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TECHNIKI FIZJOLOGICZ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Relaksacja mięśnio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Kontrola odde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TECHNIKI UMYSŁO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1600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Relaksacja wyobrażenio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Racjonalizac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Przypomnienie sobie pomyślnych osiągnięć i przeży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Autosuges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71440" y="61740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ĆWICZENIA RELAKSACYJ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Terapia śmiec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Metoda agresyw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Wizualizacja i autohipn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8920" y="22050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49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Definicja i charakterystyka stres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049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049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Jakie naturalne metody obronne posiada człowie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049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049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Jakie techniki mogą wspomóc w walce ze stres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049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Stres</a:t>
            </a: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7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8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Do tej metody zalicza się wszelkiego rodzaju medytac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WIZUALIZACJE I AUTOSUGES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657600"/>
            <a:ext cx="480060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3657600"/>
            <a:ext cx="4343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200"/>
                            </p:stCondLst>
                            <p:childTnLst>
                              <p:par>
                                <p:cTn id="2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700"/>
                            </p:stCondLst>
                            <p:childTnLst>
                              <p:par>
                                <p:cTn id="2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Metoda, w której wyzwalają się pierwotne mechanizmy obronne człowieka przed skutkami st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METODA AGRESYW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4191120"/>
            <a:ext cx="41907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4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Gelotologia, to metoda rozładowywania stresu, frustracji i konfliktów śmiec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Podczas śmiechu w ruch wprawianych jest ponad 60 mięś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TERAPIA ŚMIEC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431040" y="4653000"/>
            <a:ext cx="22114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100"/>
                            </p:stCondLst>
                            <p:childTnLst>
                              <p:par>
                                <p:cTn id="329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333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Czym jest str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Stres sam w sobie nie istniej, jest on jedynie reakcją na str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81360" y="422280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99"/>
                </a:solidFill>
                <a:latin typeface="Tahoma"/>
              </a:rPr>
              <a:t>STRE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4114800"/>
            <a:ext cx="1357200" cy="714240"/>
          </a:xfrm>
          <a:prstGeom prst="rightArrow">
            <a:avLst>
              <a:gd name="adj1" fmla="val 50000"/>
              <a:gd name="adj2" fmla="val 4750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3880" y="4191120"/>
            <a:ext cx="15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Tahoma"/>
              </a:rPr>
              <a:t>S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7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2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7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549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RODZAJE STRESORÓ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Istnieją dwa rodzaje stresoró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Wewnętr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Zewnętr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492280"/>
            <a:ext cx="878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Stres to reakcja na stresor, jest naszym własnym odczuciem, stosunkiem do bodź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Jeden bodziec może u różnych ludzi wywołać różne reakc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333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Stres jest reakcj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18920" y="475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Stres wg R.Lazarus’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Szczególny rodzaj relacj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0000"/>
                </a:solidFill>
                <a:latin typeface="Tahoma"/>
              </a:rPr>
              <a:t>człowiek – środowisk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Wynika ze sposobu oceny sytuacji, w której znaleźliśmy się oraz możliwości radzenia sobie z ni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382240" cy="480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STRES MOBILIZU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Naturalne mechanizmy obron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Racjonalizac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Wizualizac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Metody przybliże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Tahoma"/>
              </a:rPr>
              <a:t>Agres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40464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RACJONALIZAC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133720"/>
            <a:ext cx="849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9400" indent="-48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333399"/>
                </a:solidFill>
                <a:latin typeface="Tahoma"/>
              </a:rPr>
              <a:t>Racjonalizacja to pozorna i często nieświadoma próba wytłumaczenia sobie wynikłej sytuacj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99"/>
                </a:solidFill>
                <a:latin typeface="Tahoma"/>
              </a:rPr>
              <a:t>Dwa rodzaje racjonalizacji tzw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99"/>
                </a:solidFill>
                <a:latin typeface="Tahoma"/>
              </a:rPr>
              <a:t>Słodkie cytry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9400" indent="-4860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99"/>
                </a:solidFill>
                <a:latin typeface="Tahoma"/>
              </a:rPr>
              <a:t>Kwaśne winog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0:13:58Z</dcterms:created>
  <dc:creator>Karol</dc:creator>
  <dc:description/>
  <dc:language>en-US</dc:language>
  <cp:lastModifiedBy>arek</cp:lastModifiedBy>
  <dcterms:modified xsi:type="dcterms:W3CDTF">2007-07-07T18:24:48Z</dcterms:modified>
  <cp:revision>10</cp:revision>
  <dc:subject/>
  <dc:title>Stres </dc:title>
</cp:coreProperties>
</file>